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C897-66FC-4DAA-A86B-46082A3D724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F4DB-E1F4-43F6-85AA-E5C6EF945D5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BF485-28AD-4DFC-BA36-6CC012711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23228-3ECE-4202-BCF0-05477C61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E6B10-ED3D-4414-AA92-AB48B4048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EB011-2B0A-4331-A0DB-6383C8B7A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970DC-8AD7-468B-96F4-BD3E851CF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C62DC-C6B4-4F6E-BD5D-647382DF1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58361-017F-4440-B7C1-A9CA4F341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17080-AEC1-4FA5-8AA8-90D15D210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C17B9-3D15-4E55-90CB-FB0D38B92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90171-E394-41C0-9B20-1A084D66D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02777-0A44-4BA6-ABE4-AF0223E4C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753C4-4FB3-40A6-AE5A-B12EF6CD2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A9937-2A2E-4472-B3D3-9B5D986F4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FDE60-906F-4D7B-AA35-458A28E51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9A882-835F-47A6-8948-73D99E2CE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182F4-9188-4F2F-BD3D-6C7BD639B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8E2BA-A16B-4B85-8611-99CE8672D1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A94180-847C-4F7E-B9A7-DC69250AAE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7C39C4-49F6-46EE-BE52-B735FCAF8E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40C30-3F3A-4777-AEFF-F02A818387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4B474-95C5-4281-B6A7-37AF6A71C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096594-58A7-4B14-8DBF-CD31091EE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0A0C9-0877-4EAB-9EB4-E02D91545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9C923E-2991-48D7-B82C-145376EE8E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C881A-FA59-4D99-B23E-C3C923B34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BE634-DC86-4B2F-BDB3-55A30C5A5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89D611-1D6D-493C-BFBF-E73B22114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62893-1F4B-4BBB-9A35-05D3AEDDA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9E2CCE-26F9-4BD1-BEBA-C6690C143A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7E4DEE-5E85-4B78-9ED5-0F341253FD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CC913-AD1A-485D-A9B4-7A79ED5799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FDE53-1614-4A0E-A5C9-020FF943E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D545C7-9642-4192-B997-D07FD1FCC1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5FBC8-B8A1-49D2-AE80-146102FE4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977DE-295F-4DB2-8391-90224584DD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E0A567-FFD1-4690-AE50-648769A4E4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CDFCB-6E72-4E1C-9677-E627BE75F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44929-C1D4-452C-A376-FBB02E7EE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62657-74C1-4679-9238-655DB0330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8B8D8-F74A-4C8D-9464-29A485F59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F14502-9EB0-46A3-B4A2-16815BD46A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56A21A-567D-42F9-A51B-692F7E5DCC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EAD838-73CB-4940-BF1E-5AC4120BCD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4510BA-1255-4039-AD84-E6EEB3AB42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37CC9-DC3B-4F80-9482-93A65B530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D7B590-AAFF-46AA-B161-4645FE275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61A1F3-874C-4720-BF07-25C5C3F92C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5FDE2-9740-4CB6-BB40-C3155C55DA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BAD318-9DDF-4482-AB11-4F628A3FB0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33AA9D-BD5B-4D89-8C62-CBC5997F5A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1E014-C510-427B-A650-08FD44DF6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5B9EF-7FE2-494F-9EAA-05E869C2E1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AC56C4-0C0E-4E72-858E-500361B62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ABFA8E-C0A8-4E0D-8A2C-35924E4519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33BD45-9A7F-45FD-95C0-56EC1F295A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A3F00-368E-45A1-B587-B5C7349C3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CEC15C-D2D9-4457-8415-522D5087D2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49A2FB-9403-4DC3-B631-CDC42F70FA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7B7076-D985-46B0-B742-2AB9E0E4AB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AA006-9982-4D71-8B4B-4C856DE93C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93B6B2-9889-4D6E-9F68-1A8369B175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B4EF4B-B114-454E-A7D8-3BE1E1D796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C27C16-F04A-407E-B035-5F0A65580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38832-75FF-458A-A5EA-27BBE48AE2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FF8BCF-E6D9-473D-887C-2BBAEBDD73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688717-A926-45C5-86E3-C99BE7A3FB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349E0-5BD7-4497-9566-F9DF346F0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4835BA-08A9-45C7-9889-6A78A16185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199C4C-E81A-495E-B90C-AE2E4F1834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9B95F8-694A-47CC-A940-E2A7AF2415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2693E-89F8-4D95-91FE-D6F3F1A64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0A153-20FC-4027-B03E-48DDFD3AB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C3BD-0A24-4200-BE8A-2F5B4A082D75}"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292F-A0A2-492B-ADCB-4F3935602103}"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57CF-BB92-4FB5-BC24-17A169B255D7}"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A2E4-80B2-4D4A-A739-50CB70641DE8}"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84EA-E4A4-4257-B62A-20F68C2C56D7}"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7E8D9-9AF9-4C6F-B2B4-403F1AEFB14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20840" y="3200400"/>
            <a:ext cx="6838920" cy="244476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Israel Fr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obbies</a:t>
            </a:r>
            <a:endParaRPr b="0" lang="en-US" sz="4600" spc="-1" strike="noStrike">
              <a:solidFill>
                <a:srgbClr val="ffffff"/>
              </a:solidFill>
              <a:latin typeface="Franklin Gothic Book"/>
            </a:endParaRPr>
          </a:p>
        </p:txBody>
      </p:sp>
      <p:sp>
        <p:nvSpPr>
          <p:cNvPr id="285" name=""/>
          <p:cNvSpPr txBox="1"/>
          <p:nvPr/>
        </p:nvSpPr>
        <p:spPr>
          <a:xfrm>
            <a:off x="380520" y="1981080"/>
            <a:ext cx="7543800" cy="4145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enjoy playing basketball at a local gym.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 currently participating in a football fantasy league.</a:t>
            </a:r>
            <a:endParaRPr b="0" lang="en-US" sz="3000" spc="-1" strike="noStrike">
              <a:solidFill>
                <a:srgbClr val="ffffff"/>
              </a:solidFill>
              <a:latin typeface="Arial"/>
            </a:endParaRPr>
          </a:p>
        </p:txBody>
      </p:sp>
      <p:pic>
        <p:nvPicPr>
          <p:cNvPr id="286" name="Picture 3" descr="bball pic 6.jpg"/>
          <p:cNvPicPr/>
          <p:nvPr/>
        </p:nvPicPr>
        <p:blipFill>
          <a:blip r:embed="rId1"/>
          <a:stretch/>
        </p:blipFill>
        <p:spPr>
          <a:xfrm>
            <a:off x="3429000" y="685800"/>
            <a:ext cx="1943280" cy="1368360"/>
          </a:xfrm>
          <a:prstGeom prst="rect">
            <a:avLst/>
          </a:prstGeom>
          <a:ln w="0">
            <a:noFill/>
          </a:ln>
        </p:spPr>
      </p:pic>
      <p:pic>
        <p:nvPicPr>
          <p:cNvPr id="287" name="Picture 5" descr="football.jpg"/>
          <p:cNvPicPr/>
          <p:nvPr/>
        </p:nvPicPr>
        <p:blipFill>
          <a:blip r:embed="rId2"/>
          <a:stretch/>
        </p:blipFill>
        <p:spPr>
          <a:xfrm>
            <a:off x="5943600" y="1295280"/>
            <a:ext cx="1650960" cy="1650960"/>
          </a:xfrm>
          <a:prstGeom prst="rect">
            <a:avLst/>
          </a:prstGeom>
          <a:ln w="0">
            <a:noFill/>
          </a:ln>
        </p:spPr>
      </p:pic>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beginning</a:t>
            </a:r>
            <a:endParaRPr b="0" lang="en-US" sz="4600" spc="-1" strike="noStrike">
              <a:solidFill>
                <a:srgbClr val="ffffff"/>
              </a:solidFill>
              <a:latin typeface="Franklin Gothic Book"/>
            </a:endParaRPr>
          </a:p>
        </p:txBody>
      </p:sp>
      <p:sp>
        <p:nvSpPr>
          <p:cNvPr id="264"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was born in Lawrence, M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room 112 ( 112 ironically is the name of one of my favorite R&amp;B group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The Franco Household as a child</a:t>
            </a:r>
            <a:endParaRPr b="0" lang="en-US" sz="4100" spc="-1" strike="noStrike">
              <a:solidFill>
                <a:srgbClr val="ffffff"/>
              </a:solidFill>
              <a:latin typeface="Franklin Gothic Book"/>
            </a:endParaRPr>
          </a:p>
        </p:txBody>
      </p:sp>
      <p:sp>
        <p:nvSpPr>
          <p:cNvPr id="26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y family consists of my Parents Francisco &amp; Ana Franco and my brothers Francis and Eric</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y parents have been together over thirty year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m the baby of my family </a:t>
            </a:r>
            <a:endParaRPr b="0" lang="en-US" sz="30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1600200"/>
            <a:ext cx="7467480" cy="452592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eren’t the wealthiest family but my parents never let us struggle. Mom and dad were hard working immigrants who worked twenty five years at Gillette and Malden Mills and now are currently retired in Florida. My mom’s strong hand (and backhand) was the glue that held us together. My father’s great sense of humor and leadership helped us build a strong family bond that we still share today.</a:t>
            </a:r>
            <a:endParaRPr b="0" lang="en-US" sz="2800" spc="-1" strike="noStrike">
              <a:solidFill>
                <a:srgbClr val="ffffff"/>
              </a:solidFill>
              <a:latin typeface="Arial"/>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6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aseball</a:t>
            </a:r>
            <a:endParaRPr b="0" lang="en-US" sz="4600" spc="-1" strike="noStrike">
              <a:solidFill>
                <a:srgbClr val="ffffff"/>
              </a:solidFill>
              <a:latin typeface="Franklin Gothic Book"/>
            </a:endParaRPr>
          </a:p>
        </p:txBody>
      </p:sp>
      <p:sp>
        <p:nvSpPr>
          <p:cNvPr id="269" name=""/>
          <p:cNvSpPr txBox="1"/>
          <p:nvPr/>
        </p:nvSpPr>
        <p:spPr>
          <a:xfrm>
            <a:off x="-36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played baseball from age nine to age twenty.  Baseball played a huge role in my childhood and teenage years. It taught me discipline and responsibility</a:t>
            </a:r>
            <a:endParaRPr b="0" lang="en-US" sz="3000" spc="-1" strike="noStrike">
              <a:solidFill>
                <a:srgbClr val="ffffff"/>
              </a:solidFill>
              <a:latin typeface="Arial"/>
            </a:endParaRPr>
          </a:p>
        </p:txBody>
      </p:sp>
      <p:pic>
        <p:nvPicPr>
          <p:cNvPr id="270" name="Picture 5" descr="baseball stuff.jpg"/>
          <p:cNvPicPr/>
          <p:nvPr/>
        </p:nvPicPr>
        <p:blipFill>
          <a:blip r:embed="rId1"/>
          <a:stretch/>
        </p:blipFill>
        <p:spPr>
          <a:xfrm>
            <a:off x="5791320" y="152280"/>
            <a:ext cx="1600200" cy="1454400"/>
          </a:xfrm>
          <a:prstGeom prst="rect">
            <a:avLst/>
          </a:prstGeom>
          <a:ln w="0">
            <a:noFill/>
          </a:ln>
        </p:spPr>
      </p:pic>
      <p:pic>
        <p:nvPicPr>
          <p:cNvPr id="271" name="Picture 6" descr="field.jpg"/>
          <p:cNvPicPr/>
          <p:nvPr/>
        </p:nvPicPr>
        <p:blipFill>
          <a:blip r:embed="rId2"/>
          <a:stretch/>
        </p:blipFill>
        <p:spPr>
          <a:xfrm>
            <a:off x="2590920" y="3657600"/>
            <a:ext cx="3352680" cy="22953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Decisions</a:t>
            </a:r>
            <a:endParaRPr b="0" lang="en-US" sz="46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y high school sweetheart &amp; I broke up.</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became a parent to a baby boy when I was 19 years ol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continued my studies @ Hesser College and worked 3 job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obtained 2 associates degrees, Human services and Psycholog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Growing up</a:t>
            </a:r>
            <a:endParaRPr b="0" lang="en-US" sz="46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reconnected with my high school sweetheart in 2004.</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On July 3, 2009 we got marri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6" name="Picture 3" descr="0353.jpg"/>
          <p:cNvPicPr/>
          <p:nvPr/>
        </p:nvPicPr>
        <p:blipFill>
          <a:blip r:embed="rId1"/>
          <a:stretch/>
        </p:blipFill>
        <p:spPr>
          <a:xfrm>
            <a:off x="685800" y="3200400"/>
            <a:ext cx="2052720" cy="3086280"/>
          </a:xfrm>
          <a:prstGeom prst="rect">
            <a:avLst/>
          </a:prstGeom>
          <a:ln w="0">
            <a:noFill/>
          </a:ln>
        </p:spPr>
      </p:pic>
      <p:pic>
        <p:nvPicPr>
          <p:cNvPr id="277" name="Picture 4" descr="0359.jpg"/>
          <p:cNvPicPr/>
          <p:nvPr/>
        </p:nvPicPr>
        <p:blipFill>
          <a:blip r:embed="rId2"/>
          <a:stretch/>
        </p:blipFill>
        <p:spPr>
          <a:xfrm>
            <a:off x="3581280" y="3200400"/>
            <a:ext cx="2054520" cy="3087720"/>
          </a:xfrm>
          <a:prstGeom prst="rect">
            <a:avLst/>
          </a:prstGeom>
          <a:ln w="0">
            <a:noFill/>
          </a:ln>
        </p:spPr>
      </p:pic>
      <p:pic>
        <p:nvPicPr>
          <p:cNvPr id="278" name="Picture 9" descr="0363.jpg"/>
          <p:cNvPicPr/>
          <p:nvPr/>
        </p:nvPicPr>
        <p:blipFill>
          <a:blip r:embed="rId3"/>
          <a:stretch/>
        </p:blipFill>
        <p:spPr>
          <a:xfrm>
            <a:off x="6172200" y="3124080"/>
            <a:ext cx="2179800" cy="3276720"/>
          </a:xfrm>
          <a:prstGeom prst="rect">
            <a:avLst/>
          </a:prstGeom>
          <a:ln w="0">
            <a:noFill/>
          </a:ln>
        </p:spPr>
      </p:pic>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y children</a:t>
            </a:r>
            <a:endParaRPr b="0" lang="en-US" sz="4600" spc="-1" strike="noStrike">
              <a:solidFill>
                <a:srgbClr val="ffffff"/>
              </a:solidFill>
              <a:latin typeface="Franklin Gothic Book"/>
            </a:endParaRPr>
          </a:p>
        </p:txBody>
      </p:sp>
      <p:sp>
        <p:nvSpPr>
          <p:cNvPr id="280"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have 2 childre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drick 10 years ol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ah 6 weeks old…. I don’t remember what the word sleep means anymore</a:t>
            </a:r>
            <a:endParaRPr b="0" lang="en-US" sz="3000" spc="-1" strike="noStrike">
              <a:solidFill>
                <a:srgbClr val="ffffff"/>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areer Goals</a:t>
            </a: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 would like to obtain my Bachelors degree by the end of 2011 and obtain a Masters degree by 2013.</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83" name="Picture 3" descr="cap n gown.jpg"/>
          <p:cNvPicPr/>
          <p:nvPr/>
        </p:nvPicPr>
        <p:blipFill>
          <a:blip r:embed="rId1"/>
          <a:stretch/>
        </p:blipFill>
        <p:spPr>
          <a:xfrm>
            <a:off x="2362320" y="3276720"/>
            <a:ext cx="3886200" cy="2533680"/>
          </a:xfrm>
          <a:prstGeom prst="rect">
            <a:avLst/>
          </a:prstGeom>
          <a:ln w="0">
            <a:noFill/>
          </a:ln>
        </p:spPr>
      </p:pic>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7:13:28Z</dcterms:created>
  <dc:creator>Izzy</dc:creator>
  <dc:description/>
  <dc:language>en-US</dc:language>
  <cp:lastModifiedBy>Izzy</cp:lastModifiedBy>
  <dcterms:modified xsi:type="dcterms:W3CDTF">2010-10-17T19:34:47Z</dcterms:modified>
  <cp:revision>17</cp:revision>
  <dc:subject/>
  <dc:title>Autobiography</dc:title>
</cp:coreProperties>
</file>